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C334-AF86-463B-BCF8-52F04FDDF1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Past  2) Yes  3) Yes  4)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7DBC-5EDA-42BE-83AD-F5290516F9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sible sentences: There used to be/didn’t use to be less/more inequality/unemployment/slavery/global warming. There used to be/didn’t use to be  fewer/more  wars/food allergies. The UK used to have more colonies. More/fewer people used to smo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828-D8FB-46F7-808C-50D7D904CE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1/2 hrs: ;vocabulary  20 mins; previewing text &amp; skim reading 10 mins; intensive reading &amp; sequencing 20 mins; intensive reading for true/false 15 mins; grammar focus 5 mins; grammar sentence making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701-9DB5-4E89-9FBD-31469D6232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e   2/f   3/g   4/d   5/h   6/a   7/b  8/c   9/i       You can print out and cut up the words, the picture, and definitions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FA34-C0F5-4638-B95B-0EB9C29A25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ve pairs/groups brainstorm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8A6-F1B0-4400-B3E9-2DFA81A10B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82E4-D89B-40FE-BDD1-9C1F1BEAD3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e  2) d  3) a  4) g  5) b  6) f  7)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A3BB-2592-49AA-9B0B-C06DDE1475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True 2) False 3)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7D3-E2C1-4356-A27C-88B10E2E90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4CE-C8AC-4C4F-B063-55A9EC06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493-7E34-4AA3-9450-4E190950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AC4-5C6D-443F-A448-C04878A2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9FA-40EC-4E57-B60B-50EC80C8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951-4366-4825-8021-3B6738C6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864-A7C9-49E3-830D-5377ED2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9FC-7899-427A-AB17-064B1C5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47F-6DE7-4754-8C9E-1B83180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635-1E7D-40D2-8DB6-E74C3362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817-897E-41A5-B61C-AE3FA73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C7A-3DA2-40ED-9FF5-16A983FC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F7B-38D4-43DD-9DD0-391D290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748F-73A9-4FDF-BF0C-5CE13B67E4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more_junk_food_in_Indian_schools" TargetMode="External"/><Relationship Id="rId2" Type="http://schemas.openxmlformats.org/officeDocument/2006/relationships/hyperlink" Target="http://eewiki.newint.org/index.php/The_price_of_the_%22right%22_to_alcoho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204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Fighting for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   India’s healt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27320" y="404640"/>
            <a:ext cx="6016680" cy="151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44440" y="2133720"/>
            <a:ext cx="3220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Calibri"/>
              </a:rPr>
              <a:t>Answer the questions about a sentence from the article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Then I used to buy duty-free cigarettes for my friends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who loved Dunhill, Benson &amp; Hedges or Marlboro. Now I wish I had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is about the past, present, or fu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Did she buy cigarettes more than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as she stopped buying cigaret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</a:t>
            </a:r>
            <a:r>
              <a:rPr b="1" i="1" lang="en-GB" sz="3200" spc="-1" strike="noStrike">
                <a:solidFill>
                  <a:srgbClr val="00b050"/>
                </a:solidFill>
                <a:latin typeface="Calibri"/>
              </a:rPr>
              <a:t>used to</a:t>
            </a: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 followed by the infin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Make as many true sentences as you can from the words bel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any 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inequalit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      fewer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u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slaver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global warming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d to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olonie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war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UK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have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food allergies      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 people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 following artic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ut Ind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 more junk food in Indian schoo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more_junk_food_in_Indian_school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price of the “right”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The_price_of_the_%22right%22_to_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448240" y="260280"/>
            <a:ext cx="3583080" cy="239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6585120" y="3933720"/>
            <a:ext cx="2446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50"/>
                </a:solidFill>
                <a:latin typeface="Calibri"/>
              </a:rPr>
              <a:t>Vocabular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f0"/>
                </a:solidFill>
                <a:latin typeface="Calibri"/>
              </a:rPr>
              <a:t>Gramm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91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Match the words to the picture or the meaning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765000"/>
            <a:ext cx="352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1/ arteri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2/ amputa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3/ operating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theat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4/ leth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5/ malnourish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6/ tobacco lobb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7/ lung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8/ campaig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9/ adivasi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2d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roups who talk to government to get their help with sales of their cigarettes          b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)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d) something which 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kill you is 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e) parts of the body which carry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 ) cut off an arm or l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) room in a hospital for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h) someone who does not get enough food or of the right food can b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) first peoples of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75560" y="1628640"/>
            <a:ext cx="107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hy do people smok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at are the problems with smok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512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Take 20 seconds to read the first three paragraphs of the article and find the answer to this questi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alibri"/>
              </a:rPr>
              <a:t>Is the article about the effects of smoking in Indi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637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Then I used to buy duty-free cigarettes for my friends who loved Dunhill, Benson &amp; Hedges or Marlboro. Now I wish I ha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 stopped in 1984, when I met a 21-year-old adivasi boy. His arteries had become hard and the doctors had to amputate his leg. My husband Stan carried him into the operating theatre and we both cried. A little later, the boy lost his second leg and then he killed hims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at sounds very unusual. But we saw many adivasis who had amputations because of tobacco. I’m not sure why. Maybe tobacco is more lethal if you have a malnourished body and this starts a very bad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        Mari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ote the article. Put 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the sentences in the order th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happene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a) She decided not to buy cigarett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) The Indian boy committed sui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c) She regretted buying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d) She met an Indian boy who smo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e) She bought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f) She met many Indian boys who lost their le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g) The Indian boy had two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60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he next part of th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. Are the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ntences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1) </a:t>
            </a:r>
            <a:r>
              <a:rPr b="1" i="1" lang="en-GB" sz="3200" spc="-1" strike="noStrike">
                <a:solidFill>
                  <a:srgbClr val="00b0f0"/>
                </a:solidFill>
                <a:latin typeface="Calibri"/>
              </a:rPr>
              <a:t>Giant Killers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is part of the campaign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2) 30 years ago everyone was interested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ampa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3) In India today there is a big campaig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against 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75640" y="477720"/>
            <a:ext cx="194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077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 1991, I met David Cohen, co-author of an anti-tobacco book called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iant Killer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 David and others fought big legal battles against the tobacco lobby in the US. Everyone could see how much damage tobacco was doing – so many deaths from cancer, lung damage and very big health costs. And all to make more money for the tobacco industry. The problem was that no-one wanted to listen, not the government, the industry, or people who use tobac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ty years later, I am happy to see a similar battle in India. The Institute of Public Health (IPH), started by Doctors Roopa and Narayanan Devadasan, is fighting for India’s health. The anti-tobacco campaign is one of their many fights. And they already have some good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20:04:22Z</dcterms:created>
  <dc:creator>Linda Ruas</dc:creator>
  <dc:description/>
  <dc:language>en-US</dc:language>
  <cp:lastModifiedBy>Linda Ruas</cp:lastModifiedBy>
  <dcterms:modified xsi:type="dcterms:W3CDTF">2015-05-27T11:54:10Z</dcterms:modified>
  <cp:revision>76</cp:revision>
  <dc:subject/>
  <dc:title>PowerPoint Presentation</dc:title>
</cp:coreProperties>
</file>